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23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8ADC-0629-46C4-A151-814D9ED9D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7948-5317-432B-AA59-A713A0DFC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F092-6813-49F3-83F8-AB3FABE5B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432F-276C-4E97-8648-9BBE510BF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F848B-0EBE-4539-BD8D-A34942F14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CD0F2-98B9-4CF5-B9B9-FE47730DC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A5AFA-0483-485F-B0E4-177909A0D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164BA-7460-4708-BD2D-E3502B5EB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1F5E8-FB00-4E1E-BA12-68BBE0461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81049-D7EE-4B0B-A6D1-B659A41BD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CEC2E-F76B-4FFD-914A-A1B0A8B9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F1B0-3662-4414-A474-F223B9106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6C270-3543-4290-B657-3A484715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E79EC-9B44-474B-9D84-C3A19A22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FA0B2-ACA3-46FA-8FDD-33FD2D5FB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38FD0-278D-4028-9779-DF29EBD4D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D2924-0FA0-4382-99D7-10E7813E3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EB630-0658-4E80-8D32-4522820B9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A1063-6849-4324-8DAF-C81E81140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63ACD-5C24-47E8-8793-46856032B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9CEC9-953A-486F-8580-056CA1955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30C33-2FE3-4B3F-8727-6D426E9F4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028B-AF34-4330-92D7-D3CD13D41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EEFCF-BCEF-4F0B-8357-FF3AA35BE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9DD99-8D8E-456E-99C9-AE3EE7D2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3B36E-81D0-44DA-A5BA-7147A8AD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3E050-9813-48D7-84D8-4C2D0DA9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93B35-2185-404C-AE55-BBB11F4B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C3529-4ECD-4E80-A23F-7DC65B526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707F7-ABBC-4B1E-92EB-4D29D33AA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A9ED8-7BD3-42EA-9987-77F3341E5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90348-FA8B-415E-8AF5-7AAABB8E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EDBCE-8930-497A-84E5-0169E9EF4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9F65-09BA-45B1-82AF-E6DE37B46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9A5A7-899F-43D9-835D-0AA7C7641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CAB10-E800-401F-BDF1-DA394FDF1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202D2-4F10-4B95-B406-FF6EC4760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3BAD3-6460-4C1E-9984-DB1F1BC8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E9E45-CE80-4069-8EAA-34C8A47E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F8C32-3C10-4803-B05E-2983645A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D9B50-0344-434C-BBE3-794326F85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115E6-348C-486F-A7A3-131CAD605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28901-F0FA-42B6-9CE5-535594852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B074E-A64A-498C-9CC9-022F52ADA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DA49-6538-4F81-83B3-F8BF39749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8DD8E-0576-4377-84A1-734A7F2D7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8ACAC-A9B5-48E3-B329-CFEC57618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47FAF-C22B-45CD-9F42-60098D8AC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B1EA1-494E-4035-A9AD-AC8FE989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AEA42-356A-461A-B5C4-86AD0A3BA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40438-125F-4891-9E35-63FDC000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31FA9-1101-4FA5-BA7D-3D2576D4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7BB1E-EDB4-4E3F-9D84-A15727FE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0F2F8-BF17-4349-AD61-F17E60CC9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A94DC-46B5-478B-BC78-8070B09AD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60C1-1F18-4D0D-8280-82989EE40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6B322-684D-47F5-AF05-58D3F1F41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286A3-0499-45A8-93BC-D4FDFF721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AF261-6A5F-4B25-9DEE-C21D235D3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C119A-E363-4BD0-9E32-714E9F456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1B105-301F-4BA1-8100-F2E3ED217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B0322-EF2C-4821-BB7D-15F2E938E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38E252-C4F3-408B-BACB-1E5B5D061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3473F-8B01-406C-AEB0-40C315A0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4D8DC-F421-4D56-AA0F-F905713E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8D65AB-92C5-4920-BE16-7A8095B3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D93E-22FD-46C4-9218-BEA1FBE1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1FA61-071E-4DBD-9D01-D9E8CAE12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35160-C6BC-4AA7-A4E7-5D048738E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4006F-AFDA-44E6-99B7-CF95E7FAB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42CA-2601-4453-A0BA-EA58713C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70F2-2D73-4404-9819-97885450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71640" y="6356520"/>
            <a:ext cx="1582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29A1EB-FA04-4304-9AC4-FB6A712BBEF5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27AFC1-F8B6-43EE-81E1-B1EBCD4A6F59}" type="slidenum"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85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1007640" y="6356520"/>
            <a:ext cx="194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683E5D-0DED-404E-A8A1-8F7CC384D6A1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28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A250FA-18DE-4638-87C4-D736F7112CB9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71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96E847-7BF5-45C7-8CC3-61F774A54968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14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EEC2E1-3921-4EDA-846E-6535FC25CA85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.danube-region.eu/" TargetMode="External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andreja.jerina@gov.si" TargetMode="External"/><Relationship Id="rId2" Type="http://schemas.openxmlformats.org/officeDocument/2006/relationships/hyperlink" Target="mailto:andreja.jerina@gov.si" TargetMode="External"/><Relationship Id="rId3" Type="http://schemas.openxmlformats.org/officeDocument/2006/relationships/hyperlink" Target="mailto:andreja.jerina@gov.si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257480"/>
            <a:ext cx="7772400" cy="16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MAKROREGIONALNE STRATEGIJE V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4492440"/>
            <a:ext cx="6400800" cy="114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Mag. Andreja Je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Nacionalna koordinator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EU makroregionalne strategi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zz.gov.si/si/evropske_politike/makroregionalne_strategije_evropske_uni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0823"/>
          <p:cNvPicPr/>
          <p:nvPr/>
        </p:nvPicPr>
        <p:blipFill>
          <a:blip r:embed="rId1"/>
          <a:stretch/>
        </p:blipFill>
        <p:spPr>
          <a:xfrm>
            <a:off x="0" y="0"/>
            <a:ext cx="2593800" cy="903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"/>
          <p:cNvPicPr/>
          <p:nvPr/>
        </p:nvPicPr>
        <p:blipFill>
          <a:blip r:embed="rId2"/>
          <a:stretch/>
        </p:blipFill>
        <p:spPr>
          <a:xfrm>
            <a:off x="1190520" y="2971800"/>
            <a:ext cx="1702080" cy="855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"/>
          <p:cNvPicPr/>
          <p:nvPr/>
        </p:nvPicPr>
        <p:blipFill>
          <a:blip r:embed="rId3"/>
          <a:stretch/>
        </p:blipFill>
        <p:spPr>
          <a:xfrm>
            <a:off x="3487680" y="2919240"/>
            <a:ext cx="2317680" cy="895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"/>
          <p:cNvPicPr/>
          <p:nvPr/>
        </p:nvPicPr>
        <p:blipFill>
          <a:blip r:embed="rId4"/>
          <a:stretch/>
        </p:blipFill>
        <p:spPr>
          <a:xfrm>
            <a:off x="6321600" y="3006720"/>
            <a:ext cx="151596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2646360"/>
            <a:ext cx="4038480" cy="34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dra r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vezovanje regije – transport in energ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00b050"/>
                </a:solidFill>
                <a:latin typeface="Arial"/>
              </a:rPr>
              <a:t>okolj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ff0000"/>
                </a:solidFill>
                <a:latin typeface="Arial"/>
              </a:rPr>
              <a:t>M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rajnostni turiz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48320" y="1284120"/>
            <a:ext cx="403848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trategija temelji na 4 stebr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5" descr="http://www.adriatic-ionian.eu/images-x/EUSAIRpillars.jpg"/>
          <p:cNvPicPr/>
          <p:nvPr/>
        </p:nvPicPr>
        <p:blipFill>
          <a:blip r:embed="rId1"/>
          <a:stretch/>
        </p:blipFill>
        <p:spPr>
          <a:xfrm>
            <a:off x="4818240" y="2558880"/>
            <a:ext cx="38509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http://www.alpine-region.eu/grafica/schema-pillars2en.jpg"/>
          <p:cNvPicPr/>
          <p:nvPr/>
        </p:nvPicPr>
        <p:blipFill>
          <a:blip r:embed="rId1"/>
          <a:stretch/>
        </p:blipFill>
        <p:spPr>
          <a:xfrm>
            <a:off x="210960" y="2355840"/>
            <a:ext cx="3986280" cy="421308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LP v nastajanj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044600" y="1600200"/>
            <a:ext cx="481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Avstrija, Italija, Francija, Švica, Nemčija, Slovenija, Lihtenštaj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Časovnic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EK pripravila osnutek EUSAL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avna razprava do oktobra 2014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arec 2015 - Akcijski nač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ulij 2015 - EK Strategijo in AN posreduje ES in E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ktober 2015  - Evropski svet potrdi EUSAP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inistrska konferenca ob zago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98080" y="1960200"/>
            <a:ext cx="2693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3 STEB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Content Placeholder 3"/>
          <p:cNvSpPr/>
          <p:nvPr/>
        </p:nvSpPr>
        <p:spPr>
          <a:xfrm>
            <a:off x="-434880" y="2355840"/>
            <a:ext cx="4479840" cy="42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9560" y="3824280"/>
            <a:ext cx="683928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KAJ PRINAŠAJO MRS DELEŽNIK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17560" y="4519440"/>
            <a:ext cx="7640640" cy="20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VID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Kot znak delovanja skladno z nacionalnimi interesi v regij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rcRect l="5741" t="0" r="5741" b="0"/>
          <a:stretch/>
        </p:blipFill>
        <p:spPr>
          <a:xfrm>
            <a:off x="307800" y="103320"/>
            <a:ext cx="4243680" cy="27543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http://www.danube-region.eu/attachments/article/616492/Logo-00_general_small.jpg"/>
          <p:cNvPicPr/>
          <p:nvPr/>
        </p:nvPicPr>
        <p:blipFill>
          <a:blip r:embed="rId2"/>
          <a:stretch/>
        </p:blipFill>
        <p:spPr>
          <a:xfrm>
            <a:off x="3784680" y="496800"/>
            <a:ext cx="3494160" cy="1436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"/>
          <p:cNvPicPr/>
          <p:nvPr/>
        </p:nvPicPr>
        <p:blipFill>
          <a:blip r:embed="rId3"/>
          <a:stretch/>
        </p:blipFill>
        <p:spPr>
          <a:xfrm>
            <a:off x="4572000" y="2147760"/>
            <a:ext cx="27068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7" descr=""/>
          <p:cNvPicPr/>
          <p:nvPr/>
        </p:nvPicPr>
        <p:blipFill>
          <a:blip r:embed="rId1"/>
          <a:stretch/>
        </p:blipFill>
        <p:spPr>
          <a:xfrm>
            <a:off x="0" y="2454120"/>
            <a:ext cx="2538360" cy="143208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0000"/>
                </a:solidFill>
                <a:latin typeface="Arial"/>
              </a:rPr>
              <a:t>Vidnost za lažji dostop do poslovnih priložnosti in vir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8" descr="The EU Strategy for the Danube Reg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1040" y="1417680"/>
            <a:ext cx="1605240" cy="907920"/>
          </a:xfrm>
          <a:prstGeom prst="rect">
            <a:avLst/>
          </a:prstGeom>
          <a:ln w="0">
            <a:noFill/>
          </a:ln>
        </p:spPr>
      </p:pic>
      <p:pic>
        <p:nvPicPr>
          <p:cNvPr id="310" name="Content Placeholder 5" descr=""/>
          <p:cNvPicPr/>
          <p:nvPr/>
        </p:nvPicPr>
        <p:blipFill>
          <a:blip r:embed="rId4"/>
          <a:stretch/>
        </p:blipFill>
        <p:spPr>
          <a:xfrm>
            <a:off x="2163600" y="1450800"/>
            <a:ext cx="5200920" cy="5053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ttp://www.alpine-region.eu/grafica/logo.jpg"/>
          <p:cNvPicPr/>
          <p:nvPr/>
        </p:nvPicPr>
        <p:blipFill>
          <a:blip r:embed="rId5"/>
          <a:stretch/>
        </p:blipFill>
        <p:spPr>
          <a:xfrm>
            <a:off x="196920" y="3983040"/>
            <a:ext cx="1635120" cy="13539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C:\Users\a1603\AppData\Local\Microsoft\Windows\Temporary Internet Files\Content.IE5\IDLEEK12\splash_home_recycling[1].gif"/>
          <p:cNvPicPr/>
          <p:nvPr/>
        </p:nvPicPr>
        <p:blipFill>
          <a:blip r:embed="rId6"/>
          <a:stretch/>
        </p:blipFill>
        <p:spPr>
          <a:xfrm>
            <a:off x="6373800" y="2225520"/>
            <a:ext cx="277668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0000"/>
                </a:solidFill>
                <a:latin typeface="Arial"/>
              </a:rPr>
              <a:t>Horizontalna načela za izbor projektov/program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Kjer je to relevantno bodo morali projekti/programi upoštevati tud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odano vrednost v okviru EU makroregionalnih poveza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Iz sredstev tehnične pomoči se bodo financirali tudi drugi stroški, nastali na osnovi »ad hoc« potreb v času izvajanja programskega obdobja 2014-2020. V ta sklop sodijo tudi aktivnosti povezane z izvajanjem EU makroregionalnih strategij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HVALA ZA POZOR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2160" y="923400"/>
            <a:ext cx="7772400" cy="348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EČ 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zz.gov.si/si/evropske_politike/makroregionalne_strategije_evropske_unij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ndreja.jerina@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www.mzz.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SI in makror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/>
          <p:cNvPicPr/>
          <p:nvPr/>
        </p:nvPicPr>
        <p:blipFill>
          <a:blip r:embed="rId2"/>
          <a:stretch/>
        </p:blipFill>
        <p:spPr>
          <a:xfrm>
            <a:off x="419040" y="1600200"/>
            <a:ext cx="4076640" cy="4402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"/>
          <p:cNvPicPr/>
          <p:nvPr/>
        </p:nvPicPr>
        <p:blipFill>
          <a:blip r:embed="rId3"/>
          <a:stretch/>
        </p:blipFill>
        <p:spPr>
          <a:xfrm>
            <a:off x="4832280" y="1600200"/>
            <a:ext cx="403884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4832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Orodje EU integracije (kohezija, širitev, sosedstv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Makroregionalna raven omogoča prilagojeno uporabo EU politik (EU2020) za specifično področ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ove oblike teritorialnega sodelovanja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2007-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Osnovna ideja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: učinkovito in uspešno soočanje z izzivi, ki so skupni čezmejnim območj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C:\Users\a1603\AppData\Local\Microsoft\Windows\Temporary Internet Files\Content.IE5\IDLEEK12\splash_home_recycling[1].gif"/>
          <p:cNvPicPr/>
          <p:nvPr/>
        </p:nvPicPr>
        <p:blipFill>
          <a:blip r:embed="rId1"/>
          <a:stretch/>
        </p:blipFill>
        <p:spPr>
          <a:xfrm>
            <a:off x="768240" y="2268360"/>
            <a:ext cx="3346560" cy="32594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648320" y="2084040"/>
            <a:ext cx="403848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Načelo 3 x NE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amesto novih sredstev, struktur in zakonodaje uporabiti obstoječe vire, institucije, koordinirano upravljanje in sinergi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Dva ključna izziva za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DODANA VRED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istop spodbuja udeležence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eseganju nacionalnih meja in premostitvi ovir, ki jim preprečujejo, da bi bolj strateško in ustvarjalno razmišljali o priložnostih, ki se ponujajo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OROČILO EK o dodani vrednosti makroregionalnih strateg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{SWD(2013) 233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final; junij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UPRAVL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revzem lastništva MRS s strani drž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Minimalni pogoj: stabilna nacionalna koordinacija in okrepljeno sodelovanje nacionalnih koordinatorjev in vsebinskih strokovnjakov v usmerjevalnih odbor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odpora izvajanju tudi skozi transnacionalne prog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OČIL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upravljanju makroregionalnih strategi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(2014) 284 final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; maj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C:\Users\a1603\AppData\Local\Microsoft\Windows\Temporary Internet Files\Content.IE5\DO2XG1SJ\windowslivewriterdisillusionedwiththedefinitionofecm-a045thinking32[1].jpg"/>
          <p:cNvPicPr/>
          <p:nvPr/>
        </p:nvPicPr>
        <p:blipFill>
          <a:blip r:embed="rId1"/>
          <a:stretch/>
        </p:blipFill>
        <p:spPr>
          <a:xfrm>
            <a:off x="1055520" y="4754520"/>
            <a:ext cx="2025720" cy="13716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C:\Users\a1603\AppData\Local\Microsoft\Windows\Temporary Internet Files\Content.IE5\N6ZWPFLJ\red-no-signal[1].jpg"/>
          <p:cNvPicPr/>
          <p:nvPr/>
        </p:nvPicPr>
        <p:blipFill>
          <a:blip r:embed="rId2"/>
          <a:stretch/>
        </p:blipFill>
        <p:spPr>
          <a:xfrm>
            <a:off x="7064280" y="981000"/>
            <a:ext cx="1155960" cy="113508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Za kaj pri MRS g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sklajenost nacionalnih interesov med državami regi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veljavljanje nacionalnih priori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d zgoraj navzd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4616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a platforma mehke koordin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 program sodelovanja z lastno strukturo, upravičenimi aktivnostmi, vi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C:\Users\a1603\AppData\Local\Microsoft\Windows\Temporary Internet Files\Content.IE5\0M1AWZJA\Yes_check.svg[1].png"/>
          <p:cNvPicPr/>
          <p:nvPr/>
        </p:nvPicPr>
        <p:blipFill>
          <a:blip r:embed="rId3"/>
          <a:stretch/>
        </p:blipFill>
        <p:spPr>
          <a:xfrm>
            <a:off x="1617840" y="1058760"/>
            <a:ext cx="108108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-217440" y="-90360"/>
            <a:ext cx="9361440" cy="69483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ODONAV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14 držav; 9 EU, 3 kandidatke, 2 sosed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Preko 100 mio prebivalce; 1/5 prebivalcev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kupni izzivi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Razvojni razkorak (S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D, AT 2x večji BDP od regionalnega povprečja, RO, BG 80%, kandidatke 50%, sosedstvo 40% povpreč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ad privlačnosti za investir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rast administrativnih bremen in poslabšanje pogojev poslo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kupne priložnost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Reka kot transportna in trgovska ž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ravljanje z vodami vključno s tveganji – pop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rivlačnost naravne in kulturne dedišč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činkovita raba vir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D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06240" y="2181240"/>
            <a:ext cx="3344760" cy="39304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4308480" y="1599840"/>
            <a:ext cx="437832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odelovanje v okviru 11 prioritetnih področij, združenih v 4 vsebinske steb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vezovanje Podonavj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Varovanje okolja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Zagotavljanje blaginje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repitev Podonav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I koordinira prednostna področ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b – kopenski in zračni promet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MZ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s Srb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0 – administrativna krepitev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CEF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z Avstr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ff0000"/>
                </a:solidFill>
                <a:latin typeface="Arial"/>
              </a:rPr>
              <a:t>NACIONALNI INTERE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184320" y="1600200"/>
            <a:ext cx="3771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6" descr="http://www.adriatic-ionian.eu/images-x/AdriaticIonianRegion.jpg"/>
          <p:cNvPicPr/>
          <p:nvPr/>
        </p:nvPicPr>
        <p:blipFill>
          <a:blip r:embed="rId1"/>
          <a:stretch/>
        </p:blipFill>
        <p:spPr>
          <a:xfrm>
            <a:off x="0" y="61920"/>
            <a:ext cx="9144000" cy="75610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JADRANSKO JON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8 držav; 4 DČ, 4 DN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Italija, Slovenija, Hrvaška, BiH, Črna gora, Albanija, Srbija in Grč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sprejeta na Evropskem svetu oktobra 201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novembra 2014 – ministrska konferenca ob zagonu izvajanj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prejeta pravila več-nivojskega upravljan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rečanje deležnikov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srednji fokus strategije sta morje ter obala z zaledj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0000"/>
                </a:solidFill>
                <a:latin typeface="Arial"/>
              </a:rPr>
              <a:t>Slovenija skupaj z BiH prevzela vodenje okoljskega stebra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za obdobje treh let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5.3. 2015 prvi sestanek okoljskega stebra v Piran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3T12:03:27Z</dcterms:created>
  <dc:creator>Andreja Jerina</dc:creator>
  <dc:description/>
  <dc:language>en-US</dc:language>
  <cp:lastModifiedBy>Andreja Jerina</cp:lastModifiedBy>
  <cp:lastPrinted>2015-03-11T12:51:39Z</cp:lastPrinted>
  <dcterms:modified xsi:type="dcterms:W3CDTF">2015-03-11T12:51:55Z</dcterms:modified>
  <cp:revision>27</cp:revision>
  <dc:subject/>
  <dc:title>MAKROREGIONALNE STRATEGIJE V EU</dc:title>
</cp:coreProperties>
</file>